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49D5-9511-4880-BB84-339E7D75E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56B8-6946-4B90-AEBF-B87AADF0E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0097-FAE0-49B7-9897-A45F1239B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5948-C6C2-4B12-BFE6-2573BE7DD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6432-B922-4E69-81BC-F05C030A8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E184-5953-43C7-842B-CA2B2F71E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AE95-5EF4-4A6A-8E74-03E2496B0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AEAC-4166-4294-A42A-22887BB57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0325-ACE5-4386-9689-505B7884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9F8A-1411-4E97-8BA0-86D66D0D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1DFB-5EF6-4EA9-BEA8-F955BF98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2C27-9012-4375-AF3F-DB6F2DDE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9FE82-F46E-444A-952D-968CF6A8D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tarchart.esc12.net/resources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24824" t="0" r="0" b="2751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exas STaR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441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lby High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8 -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Texas STar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acher STaR Chart is designed to help teachers, campuses, and districts determine their progress toward meeting the goals of the Long-Range Plan for Technology, as well as meeting the goals of the distric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 Areas Cov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ing and Lear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or Preparation and Develop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hip Administration and Instructional Supp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rastructure for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tings Defi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= Early Te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= Developing Te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= Advanced Te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= Target T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– Reach Target Tech by the end of 2020 in compliance with TEA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Range Plan for Technology (LRPT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aching and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ing T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teachers have regular weekly access and use of technology and digital resources for curriculum in the classroom, library, or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teachers use technology to support content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5467" t="32672" r="25003" b="39337"/>
          <a:stretch/>
        </p:blipFill>
        <p:spPr>
          <a:xfrm>
            <a:off x="1295280" y="1447920"/>
            <a:ext cx="67820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ducator Preparation &amp; Developmen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3123720"/>
            <a:ext cx="8229600" cy="30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ing T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teachers on campus demonstrate four SBEC Technology Applications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teachers use technology as a tool in and across content areas to enhance higher order thinking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5467" t="62005" r="24220" b="8669"/>
          <a:stretch/>
        </p:blipFill>
        <p:spPr>
          <a:xfrm>
            <a:off x="1143000" y="1295280"/>
            <a:ext cx="68580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adership Administration and Instructional Sup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35812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ing 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pus leadership communicates and implements a shared vision and obtains buy-in for comprehensive integration of technology leading to increased student achie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pus discretionary funds and other resources are allocated to advance implementation of most of the technology strategies to meet the goals and objectives outlined in the Campus Improvement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6250" t="20670" r="25003" b="50003"/>
          <a:stretch/>
        </p:blipFill>
        <p:spPr>
          <a:xfrm>
            <a:off x="1295280" y="1676520"/>
            <a:ext cx="67057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 for Tech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335268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vanced 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 or less students per Internet connected multimedia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connectivity to the Internet available at the campus in at least 75% of the rooms, including the 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least one technical staff to 351-500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dicated computer per educator with assigned use of  multimedia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6250" t="50003" r="25003" b="19335"/>
          <a:stretch/>
        </p:blipFill>
        <p:spPr>
          <a:xfrm>
            <a:off x="1143000" y="1447920"/>
            <a:ext cx="67057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tarchart.esc12.net/resources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Dawn Renee Fo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5T05:11:52Z</dcterms:created>
  <dc:creator>User</dc:creator>
  <dc:description/>
  <dc:language>en-US</dc:language>
  <cp:lastModifiedBy>User</cp:lastModifiedBy>
  <dcterms:modified xsi:type="dcterms:W3CDTF">2010-07-15T06:04:52Z</dcterms:modified>
  <cp:revision>10</cp:revision>
  <dc:subject/>
  <dc:title>Texas STaR Chart</dc:title>
</cp:coreProperties>
</file>